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0EAACB-9E1C-48F9-94E4-7D3E3D16F3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D0322B-B4A4-4AAD-87DE-62A746F4B5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69FB1D-5E46-427D-A45D-BF2BD38F55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5197B0-6D11-4F16-9FFA-CDEA6E3E2C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0E858B-87B3-4EE0-9E23-E3ED64DCEC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E22F3E-D4A7-40DE-A6DD-19FA85861D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2F333F-B470-4522-9EA1-1423386ED5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EFADA2-DDF2-4978-A1B3-6A31824249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1BE17E-1E9B-4BD8-AA4E-3349D5630F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EADFC0-9E4A-4AAF-B5DB-E43B5351D6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3AA153-5C1A-40A7-8D06-719ECAD818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21E02A-4C5F-42F8-B371-AE9F020F84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ABB442-47E1-49C2-BA91-1A8813FF8F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64EAFD-9E48-4B5E-95FC-FB3C7ADDA6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5CB786-24D8-4D00-9F17-BD90836ED8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24D9C3-97B6-4C65-AEC5-8763102915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4E0925-E9D9-434E-9CE1-2464C285FB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F99402-3D53-4922-9B99-A296DB33DA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18659E-490D-4214-AE85-39B12677ED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C6552B-0B07-4AEB-8059-64A2D9BE7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6583FB-FA38-4B68-A780-70452F11D2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87C5D-7D5D-48AC-B287-B743044DE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538BA-6037-4EC2-8289-E5F9E3EFE1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6BB55-C421-4E58-B2C6-3CF6E1FED3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1CC6D-FD70-495F-8C05-87701D678311}"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E009B-816E-411B-BAD2-E8986D581230}"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3366"/>
                </a:solidFill>
                <a:latin typeface="Arial"/>
              </a:rPr>
              <a:t>English</a:t>
            </a:r>
            <a:endParaRPr b="1" lang="en-US" sz="6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66"/>
                </a:solidFill>
                <a:latin typeface="Arial"/>
              </a:rPr>
              <a:t>Oct. 6</a:t>
            </a:r>
            <a:endParaRPr b="0" lang="en-US" sz="4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genda</a:t>
            </a:r>
            <a:endParaRPr b="1" lang="en-US" sz="36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 7</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ish power point presentation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L</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oon is out during the day just as much as at night but sometimes the sun is so bright you can’t see the moon and if the sun werent so bright, you could see planets and stars alright, too.</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ream:torrent::_____:gale</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btor:owe::vendor:_______</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 8</a:t>
            </a:r>
            <a:endParaRPr b="1" lang="en-US" sz="36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3366"/>
                </a:solidFill>
                <a:latin typeface="Arial"/>
              </a:rPr>
              <a:t>Homework-Read ch. 8</a:t>
            </a:r>
            <a:endParaRPr b="0" lang="en-US" sz="6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6T13:13:18Z</dcterms:created>
  <dc:creator>VMS</dc:creator>
  <dc:description/>
  <dc:language>en-US</dc:language>
  <cp:lastModifiedBy>VMS</cp:lastModifiedBy>
  <dcterms:modified xsi:type="dcterms:W3CDTF">2009-10-07T19:00:16Z</dcterms:modified>
  <cp:revision>4</cp:revision>
  <dc:subject/>
  <dc:title>English</dc:title>
</cp:coreProperties>
</file>